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856897"/>
        <c:axId val="5531679"/>
      </c:barChart>
      <c:catAx>
        <c:axId val="348568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1679"/>
        <c:crosses val="autoZero"/>
        <c:auto val="1"/>
        <c:lblAlgn val="ctr"/>
        <c:lblOffset val="100"/>
        <c:noMultiLvlLbl val="0"/>
      </c:catAx>
      <c:valAx>
        <c:axId val="55316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568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A1FB-5AF7-454F-BBF1-CCD88C71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6188-70E1-4097-8AB5-DE7F5D23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0F83-96BE-4638-BC90-99054361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485C-4001-41AB-85A1-A32FA9B6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3103-A756-44DF-9C11-B537CC31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27AB-C992-41FD-AF93-D14BD017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8620-FF45-47CF-B5F2-2CBE0277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653C-5D83-4C4C-A574-56F531B9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C937-37A2-45FA-824D-7A1990C3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0619-349D-4860-A96E-69C55354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243C-FF06-4CF8-8569-165F71C6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BD52-6DD6-4196-AAD4-2D2EC390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AD54C-3136-41F8-B444-865E17263D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