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40140"/>
        <c:axId val="25263991"/>
      </c:barChart>
      <c:catAx>
        <c:axId val="77401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263991"/>
        <c:crosses val="autoZero"/>
        <c:auto val="1"/>
        <c:lblAlgn val="ctr"/>
        <c:lblOffset val="100"/>
        <c:noMultiLvlLbl val="0"/>
      </c:catAx>
      <c:valAx>
        <c:axId val="252639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401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F90E-2496-4687-B7E3-1C22D4169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CD1A-4A39-4477-BEE4-FCAFC687D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E061-0545-44C0-9EC0-AA34BAC9A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BB42-D998-4445-97C3-387FA4750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5F54-2852-4DA0-A738-05A28AFC3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A26B-C9AD-401E-BB3C-E5FD0F526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6E68-F4BC-4CBB-877A-F67EF4934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18BB-2B84-4A06-AFD3-C1570BD41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3557-B2C2-46D9-A36D-5A3458B82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5D3B-C606-4041-B95D-8311A86C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5C9D-DA44-483C-8CFF-9E2A5DCB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0F91-F01B-4D57-A7D9-6F902C32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1430B8-234C-4899-8697-D980C530EF8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