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86079"/>
        <c:axId val="63422359"/>
      </c:barChart>
      <c:catAx>
        <c:axId val="66186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22359"/>
        <c:crosses val="autoZero"/>
        <c:auto val="1"/>
        <c:lblAlgn val="ctr"/>
        <c:lblOffset val="100"/>
        <c:noMultiLvlLbl val="0"/>
      </c:catAx>
      <c:valAx>
        <c:axId val="63422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86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50A-00ED-4DA4-A045-3C247105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DE1-66F4-46D7-AED0-CD485513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B10-596C-42F1-98A8-B79EB173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DD2-6740-4F98-9106-D66B8E71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06E-FF4A-478B-80E5-57D2AD58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554-3D5F-4D91-977B-6BDB95D2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5EE-E055-461E-A888-068231F7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E36-0467-44A2-AB2B-B2591D7C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E42-6ABC-4865-B737-37FDFA81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524-14AA-44F3-9D96-57AE617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19A-B5DE-4235-A5A0-6DB75018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EC9-05BF-4911-B317-C3EEFAA5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A57E2-68A2-4276-AC27-D0CBA3F488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