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5369"/>
        <c:axId val="40025100"/>
      </c:barChart>
      <c:catAx>
        <c:axId val="6365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25100"/>
        <c:crosses val="autoZero"/>
        <c:auto val="1"/>
        <c:lblAlgn val="ctr"/>
        <c:lblOffset val="100"/>
        <c:noMultiLvlLbl val="0"/>
      </c:catAx>
      <c:valAx>
        <c:axId val="40025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5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954-5FD2-4AB5-A9CD-25444D3F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D72-EBF3-46F8-BE50-4EFB0B5A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D28-582F-41F9-B057-44E3FC0E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1B7-EED3-465D-9108-F41455E7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6BB-AF57-4EF3-AE19-6BA8ED48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E1A-2310-4F13-ABEE-AB534E36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B3E-60F8-45C7-9049-C0D864B0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1AB-1DF7-4BE6-9BAC-5EA52E37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BDB-888F-452D-819D-807A9B64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0FF-DAEB-48DC-8977-59F9895E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6E6-8524-4CEB-9169-5D5A3826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3D3-203B-4057-B205-01C4E73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A3885-1902-450A-8E2A-F7FE08D24F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