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223019"/>
        <c:axId val="21155645"/>
      </c:barChart>
      <c:catAx>
        <c:axId val="292230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155645"/>
        <c:crosses val="autoZero"/>
        <c:auto val="1"/>
        <c:lblAlgn val="ctr"/>
        <c:lblOffset val="100"/>
        <c:noMultiLvlLbl val="0"/>
      </c:catAx>
      <c:valAx>
        <c:axId val="211556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2230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D8FC-ED08-41B0-9051-54D41DB61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37DB-964A-4527-9089-C439BC35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6CCA-364A-4448-B211-7A62FB3C7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1713-3968-4C7F-8F31-D17C0E3F6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7349-7170-48D3-8833-19E0FE95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7912-96B7-4B2C-9687-A6753A35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8989-F6FD-426D-813E-BC67FCAB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326C-E7A2-44CA-B74A-C4C723BA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8686-97E6-4776-B406-CDBFCD71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1F17-6D55-41C3-AD81-EDDBCFC2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23D0-ADCE-48D0-A9E6-C121A14F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3E3A-C3DD-47C7-BF97-BDA88CBA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66781-983A-46AF-9B65-34AC63FA84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