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20482"/>
        <c:axId val="60510487"/>
      </c:barChart>
      <c:catAx>
        <c:axId val="94204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10487"/>
        <c:crosses val="autoZero"/>
        <c:auto val="1"/>
        <c:lblAlgn val="ctr"/>
        <c:lblOffset val="100"/>
        <c:noMultiLvlLbl val="0"/>
      </c:catAx>
      <c:valAx>
        <c:axId val="605104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04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639A-E49D-408A-A216-26E7BA7D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FE86-7344-4801-8811-A70CBCD0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8A6E-34B4-4EFB-99A8-0581C7A6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0A62-19FE-48B9-8071-EFBA54F0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8B6C-E667-4024-B94C-278CFC59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A9FA-2550-46A7-AA4F-96B891F6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5784-7DEE-4DA6-9833-5F0F7186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196B-4304-4FEB-BEF5-60AB3DA7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2152-2BFA-43D6-A8D2-10DE5FCD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000-F99A-4455-B7E5-8748E1D9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A875-66CA-4FD2-981D-51280B78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9FE6-FF67-48B9-8E9B-11BE105D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92FCC-5D6E-4601-A434-9351719448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