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797760"/>
        <c:axId val="21254844"/>
      </c:barChart>
      <c:catAx>
        <c:axId val="45797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254844"/>
        <c:crosses val="autoZero"/>
        <c:auto val="1"/>
        <c:lblAlgn val="ctr"/>
        <c:lblOffset val="100"/>
        <c:noMultiLvlLbl val="0"/>
      </c:catAx>
      <c:valAx>
        <c:axId val="212548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97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B357-4F76-4B42-8901-531E08C9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15CF-9EB8-420F-A5D3-30A295D8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81B-DC7E-44C7-AA30-848B636C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8DF-7060-4960-A595-5B3CF9AB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6D5-6577-454B-BFBD-13EA5EEA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EA4-74E6-44FB-8362-C5D02180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5570-4E8D-44CA-AE3A-5B7A679F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662-6BE3-437A-9172-032C8972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A24-FF8E-452A-A4AF-968D914E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50B-E270-40FF-81EC-4F3FDCFC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172-BD7B-426D-9B9E-4053C182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44B0-67A1-461F-88F6-6570A644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FFBF9-BB8A-40BE-B123-3C7B307546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