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0439"/>
        <c:axId val="21787845"/>
      </c:barChart>
      <c:catAx>
        <c:axId val="2290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87845"/>
        <c:crosses val="autoZero"/>
        <c:auto val="1"/>
        <c:lblAlgn val="ctr"/>
        <c:lblOffset val="100"/>
        <c:noMultiLvlLbl val="0"/>
      </c:catAx>
      <c:valAx>
        <c:axId val="21787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0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62A-3819-414C-8D21-43F77D06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470-65B2-4D08-851E-690FC155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972-7765-4847-B506-978E9B86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407-B85C-44B6-8333-AB9A0E0E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CF9-49EF-425F-815B-313C97F8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551-F31B-47D3-9099-8DDEE1DC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3EA-41B6-4C19-AC77-239F8B5F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C37-87E3-412A-9F3F-D059748F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5D5-7BE2-4D99-BC6B-338078A0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FC4-D14B-4F3B-B6AD-72A34D4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B89-9257-48F2-B4D2-7515C18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812-FB04-4315-B9CD-C2095DE1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EF437-C559-4EF5-BEE0-94DBD44ED1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