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77352"/>
        <c:axId val="87144412"/>
      </c:barChart>
      <c:catAx>
        <c:axId val="58877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44412"/>
        <c:crosses val="autoZero"/>
        <c:auto val="1"/>
        <c:lblAlgn val="ctr"/>
        <c:lblOffset val="100"/>
        <c:noMultiLvlLbl val="0"/>
      </c:catAx>
      <c:valAx>
        <c:axId val="87144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77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EFC-CEDD-4CBB-BCB1-79A4F415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DD3-C898-4EB1-9B29-44EBA89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455-2758-48CE-B1A5-0CDF1D98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FB7-C646-442B-BE78-958CD33C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B69-9824-4CEF-863E-52F370FA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BE4-AF12-4B45-97C0-B3B1DFA2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5A7-66E3-4C03-9C43-CAB1715D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0B4-59B5-461E-B071-994B165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2E2-515D-40C1-A29A-694293FC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3BE-97AE-4C7A-A9E8-90A00B5D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4FC-FB36-4DFD-B960-1437960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508-AC9A-4C49-9D5E-C78A7BB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32959-6C85-4C4D-AF2E-E1E739E1C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