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03284"/>
        <c:axId val="60827415"/>
      </c:barChart>
      <c:catAx>
        <c:axId val="15403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27415"/>
        <c:crosses val="autoZero"/>
        <c:auto val="1"/>
        <c:lblAlgn val="ctr"/>
        <c:lblOffset val="100"/>
        <c:noMultiLvlLbl val="0"/>
      </c:catAx>
      <c:valAx>
        <c:axId val="60827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03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9B8-8C83-4EAA-B849-C707B17C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FA5-4E2A-47E2-9E49-D989DC3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1E8F-E824-44C7-895F-066FFB00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6D8-3B0E-45F5-A54C-75CCA21D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29E-4821-418D-A12E-F58485B8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D2E-2054-4AF9-8B4F-F175BE0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D13-1974-486D-B730-79B199FD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CD1-4DC6-4191-9EA8-AF0B1996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2C9-3D45-4F8B-8941-F4F9EB9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CBB-1C94-4DCA-80D1-2B05EF0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B59-DA36-4F89-A74B-90E3C8E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FEB-30C1-42E5-A540-4DE7BF6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17162-5123-4D5C-AA7F-40B0A41042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