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03323"/>
        <c:axId val="24348914"/>
      </c:barChart>
      <c:catAx>
        <c:axId val="45803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48914"/>
        <c:crosses val="autoZero"/>
        <c:auto val="1"/>
        <c:lblAlgn val="ctr"/>
        <c:lblOffset val="100"/>
        <c:noMultiLvlLbl val="0"/>
      </c:catAx>
      <c:valAx>
        <c:axId val="24348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03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879-24FC-4BF2-83FF-05AF450D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23C-5EC4-482B-933B-7F412720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A9D-9F0E-44C2-A1B8-52B1192B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E05-784C-4D6B-8578-3ADEBA49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E3A-9CA8-4203-AA8C-CCFD9415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98D-9556-486D-8857-5CCCB349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68C-F3FC-45D4-9FCE-8202EB49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6D3-0C12-4F8D-8333-7A44BFC5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595-2520-4049-B956-866A4EF2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A36-E2D4-43D6-870B-14B49870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3A7-21C7-4603-87FA-02BD6301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12F-DDFD-457D-867F-19DA414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C6EE6-459A-4AA8-B618-E8BF324D7B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