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43152AF-7233-48A4-8A9D-61CA7963BD49}"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3066543-90F9-404E-8EBD-EB4A6748CEA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6CF0507-099E-4285-94E1-5C2645257D7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404715E-1C5B-41F5-BD0F-052BC3506BA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41FEFA0-1EF7-4062-8FF2-F12CA6E7F5E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6116A6D-1AF4-479D-8721-E98E7A11439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DF256F7-44BD-4EE7-9B96-D4A3BDF519E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0AA0F69-82AC-4F76-95C6-D6836C23852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B29F504-F6C9-44C6-A1CE-00D965E2A89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E025553-5939-47B5-9208-3ED3686F894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06FD7F6-B0A3-4AFB-84F5-1910AA16524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EDE12E2-49A2-462C-9B80-9D05475CAC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57D4A9-2F4F-4B75-B250-104B0BD4FD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F9B0EA2-A61D-4205-93DE-4E5B41469B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B2A878B-2A6E-4F0A-908B-124B01F9A9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BD36CF3-1EAE-4E3F-9460-584E00CCFFE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B1A13B9-4DC9-45BA-A8A1-F8B538D89C5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54C249B-594B-4998-91DD-BAEFAC1460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67DBC95-3290-4D7C-B359-FEFAC8F3FF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A06ECDF-F7FA-47D6-BD8E-5DC4284177A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54DE205-B556-4631-8EB3-C08A575A514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7A29523-AB1A-41E8-A8DD-BCA5D9A471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D0930D-0326-4E00-A5AF-7A0F2D9DCF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B58D621-E3B4-46A7-B08F-D099AA60A13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4FA0798-2B75-44E2-9F62-ACB2678E32B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15D08F1-19A8-4E2C-BEA7-0C74EB8E9A8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77DBF8B-6017-464F-8443-11501227DA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AF82511-2823-4E9F-AF29-544DE73DA4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CF4F8A-0AFA-4671-9CFB-7238AA6379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E8E325A-346E-4148-B210-14353CD461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94DE8A-0FB0-4C4E-9FCF-06A5E09E4F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A495AA-2729-4638-B282-4C8C6283AB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5AC2F7-DF51-4B4A-95FC-558289F6A3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8DA1FB-4013-4A55-A357-8647E26F4A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E5A6E7-B0E4-45E4-9E74-F3F3DCE137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61078-0255-41DC-9000-73C005F44948}"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E01BB-F0EE-411C-8D1C-2B51B5A38C2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5F9AABD0-0AFE-428A-A1A0-E5EEF0A1A7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AEDBE2E-1C78-484A-9D39-A45924654144}"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2674A91-9F5C-4391-834F-8D963ADF63A8}"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42FB9BA-020E-4D83-99C2-CE3F50B7C814}"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DF2B414-C975-4280-96CC-C070465917E2}"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E04C48B-5DDC-4FDF-9A0C-E1F45B7140F2}"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E04DDF0-E5CD-4C28-8BB7-FC41A57CA052}"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D167EFF-91D8-4BDB-A077-61D238EC2350}"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4B2B10C-BC2A-443C-94A9-8D50F1F3C9A6}"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1A18DAF-B751-4519-AA18-B0A47CFDC40C}"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C9E9CFF-4270-46DB-8845-DC867BCA8B2A}"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E9E3398-D6B6-4820-BD52-92A6D04FFD3A}"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23CF51F-5F81-406C-87D9-70B2D4D71F67}"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BBE2E29-E3B8-4A8C-B62D-386CB2824FCF}"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DA0011F-FFA1-4C43-B3A9-FC6692A23FCD}"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ACF4376-4BC2-4121-8DAC-0BE385F4E192}"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B8EFDB1-C6F1-4850-B3CB-203E9619881B}"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158E58B-B501-4115-B66D-7724AA3C79C9}"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22F041E9-2E7C-4EBB-940A-138C25CF3DB4}"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34E52B58-1943-4961-9B60-C69DF2F49E6F}"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88DD522-D209-42E9-97CE-F9F033789CC8}"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17B8FB9-23ED-4016-BED3-6A7DBC351A14}"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9F7B70B-0529-4C90-8205-9329BEF95DC3}"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9CDCE09-F417-4AA5-97BB-939A0B4B930C}"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4B0684D-7FB5-4751-9908-83D9278C51D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DA7DFDE-41E7-4A5F-8DBC-141486AEB2A4}"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CD4543A-4DE9-485A-968D-6BF4EA737C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408EEDF-2C06-442E-9976-DBA7D9944BD9}"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16E4A5BB-C043-45B7-AB73-730FE320B5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985864A-5852-4084-9A7E-2722A2C69A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979CE9E-6BD9-498A-9B85-8D988AD40F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17A877A-96C8-4514-80DF-F80EA57267C4}"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302A6B8-10CC-47D3-9DA3-EA4439A9AF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FC62F53-E3C8-4FE3-8E4D-61974769F2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0182CD9-A195-47EB-9F96-DE50BA8B8A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462B2DD-6CB3-49B6-BD5E-D6501B884D2A}"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60F00F3-2AA8-459E-A241-C0646EA5B1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ADAE248-4616-4AD2-80A8-F476222A0A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DAA93D7-A2BB-4356-9958-81CD874976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274F381-4B06-496C-92ED-D9EF8BB46101}"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90D29A3-B2B9-49EF-9EED-7FC698D3C5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FE194EF-E38E-4505-9701-D26B1327D0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4B871E9-C321-4661-8C81-86A6389B3888}"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E6540ED-09E9-44DF-831C-0080AAD464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3762073-E224-41A1-B6A0-8C8C4D8C42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D478DBA-9A86-4BEA-B4DF-C0DA1F49C32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0236A83-8472-4824-85E4-F6E30C05B5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A9FAB79-959D-4018-A257-4B060A024CA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A0A6A97-294E-44CD-BAE8-BF1CEBF4FDB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1F11972-113B-4405-B41E-4D723A66863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26C0F21-A450-4DB2-8AE4-8F433862C04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DD82478-3776-4E3F-96AD-8097EDE7F78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DD43F63-8AF8-47EC-9BE4-214ECE68226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8DF7A8B-12DB-4DE8-8FB9-A9043E51881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680157C-E3AD-4F02-A442-535C038C012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D519EE4-5C9E-4FF4-831E-5EFB9B0EF31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A3DF8ED-AA0C-4412-B89C-B91F0B7CA6B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23C1EC0-CB55-48FB-8EEA-EA49D090A4C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064E783-51FE-4BE6-91D9-86EAC8BB8E8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4899294-7570-4856-93B5-6A8CD48B945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76B79FC-D85C-4FE9-A289-C77EAD24DB2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DC1CD73-4C06-4308-9887-11ACFE7C123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65A173E-56B4-4E16-8F45-08CC339CCA8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232EAE0-7894-4ECE-B8A5-47F75BE35081}"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198C014-B8C1-42DC-A22E-1DAB363950D5}"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DE86F15-4F2E-46A2-A47A-E3934F9E906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3314FAD-5080-457F-811F-DC1517AA406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CCE2563-D068-45DF-BF51-26CE83ECA11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F213386-AFD3-4F55-8AD5-2D9373174B6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3BC058A-883A-4021-A21B-9AE5B80EF18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326B941-0808-463F-B0C2-4EE95BC4EB6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2BCA9A2-FBF7-4930-B503-B3868010C07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5B9099A-1297-4FBC-AEF5-2ECD8F5BC936}"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C01B07B-B996-4285-BE93-B1261E7BAA9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0AB9D8B-3A43-42E8-9F31-08B3690C5552}"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E821312-F43B-4624-9368-AE445E9E923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414D25B-CF95-46BF-AA29-5B2E5CC5D5A7}"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F591271-02FD-4D29-A56F-540E9579F21F}"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EE271C2-F5B0-421A-8864-DDB72D1C202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68EBBCC-9ED2-43E6-9167-0A3D0E8E38B7}"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A1E88F9-3F7D-4679-9D36-2CF2A2CDC62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9EFBCC5-B7D9-4222-822E-D5A86E5A68D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4E947A2-0692-4B73-A7D3-A58E8C74CEF5}"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1F90A95-0ACA-4047-B31E-1C0C0F3F65A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6D640EE-7435-44B7-B7E6-2E7A71E629D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9BE4503-1982-4CF1-A755-F4E9C9D01859}"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15EE83F-9724-42E1-B007-66553B49B41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8011DAB-A9DB-4CB9-98BF-180C1A9E895A}"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3B5C9C9-2995-4379-B973-0D593C434783}"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74711DB-AEC7-4E4E-A258-07434638F5A9}"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4EC906B-DE88-4EBC-BA8C-ACEA5194457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4367CC5-A1BA-4CB4-B99D-D4CF0912B8D5}"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EB52A3B-FF50-46CF-A750-CA0D102DFA32}"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A4E9B20-3BEB-4620-9199-F8CBD56AF62D}"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1D282B2-597A-42F9-872D-6A0A2B495612}"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8FAD75E-2FD2-4004-9609-75041BF40904}"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64405CE-0B87-409A-BFDD-9BF38E64C160}"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D3DA8C7F-1038-4198-8A7E-8E29B02D68AF}"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E484A58-DA5D-4A83-B61E-3067CEB74DD3}"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C32DC0E-CB26-40BE-8C5A-876F46CC5F34}"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E5B5B1F-F3D6-4FF6-9122-587A51028C74}"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0346A75-6BED-4532-BA01-1082D472BD2D}"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D463F6C-A199-491F-8D09-BEFF96C6D1CB}"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EA73511-BEDC-4B3B-8810-B937016C9BD0}"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DD570D6-E43B-43CC-867B-EE3A1BE20C2C}"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FAA119D-5C86-4332-A1A4-0FDDE315E024}"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74BD1B3-B4FA-4D37-90E3-8190E6F9DEF7}"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9D41359-A23A-43A2-992F-8DE0C4729022}"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46D8D38-EBA1-46A4-B8C0-95849BD072AD}"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3898FC9B-3A77-4D48-9406-6EB2699F38D5}"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8E20366-F311-4325-BD2D-750698D5DE26}"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086A42F-DD8F-4EED-817A-133E14B781DF}"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ED714FC-6117-45F1-BA83-300D8BB61C96}"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BFCA4D3-B4AD-44E5-9D53-0B170417C191}"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1421C4A-AFA1-4F2B-AC99-F267EA677AC9}"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F7544B1-30AB-4186-ABD7-4A214284ECFF}"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24B291C-98CF-4871-A16B-FE855EC30861}"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C984C1C-6DF9-4469-B5C9-5A05BF72697F}"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C5CF1E1-A9F9-4B74-99F5-C046494F4401}"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2D69A7B-EBFD-4EA4-99FE-5D815E1D1C2D}"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9ED81C-43E3-43C4-9E5F-B3784A364CE4}"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